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61880" y="1109520"/>
            <a:ext cx="1049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圆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25892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圆的面积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1319040" y="120348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097360" y="3465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3000" y="3681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11280" y="2276640"/>
            <a:ext cx="8208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～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17560" y="1268280"/>
            <a:ext cx="7786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宋体"/>
                <a:ea typeface="宋体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个圆的周长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5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求它的半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个圆形茶几面的半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它的面积是多少平方分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2268360" y="30160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.5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.1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340000" y="46134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.1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8.26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d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7360" y="3465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3000" y="3681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332000" y="4354560"/>
            <a:ext cx="695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国建筑中经常能见到“外方内圆”和“外圆内方”的设计。上图中的两个圆半径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你能求出正方形和圆之间部分的面积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92360" y="1844640"/>
            <a:ext cx="5184720" cy="2232000"/>
            <a:chOff x="1692360" y="1844640"/>
            <a:chExt cx="5184720" cy="2232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692360" y="1844640"/>
              <a:ext cx="22208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710240" y="1915920"/>
              <a:ext cx="216684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520920" y="4365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89120" y="1628640"/>
            <a:ext cx="3490920" cy="1440000"/>
            <a:chOff x="789120" y="1628640"/>
            <a:chExt cx="3490920" cy="144000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789120" y="1628640"/>
              <a:ext cx="14796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2837160" y="1628640"/>
              <a:ext cx="1442880" cy="14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4932360" y="1989000"/>
            <a:ext cx="3828960" cy="1279440"/>
            <a:chOff x="4932360" y="1989000"/>
            <a:chExt cx="3828960" cy="1279440"/>
          </a:xfrm>
        </p:grpSpPr>
        <p:pic>
          <p:nvPicPr>
            <p:cNvPr id="60" name="Picture 16" descr="女天使"/>
            <p:cNvPicPr/>
            <p:nvPr/>
          </p:nvPicPr>
          <p:blipFill>
            <a:blip r:embed="rId4"/>
            <a:stretch/>
          </p:blipFill>
          <p:spPr>
            <a:xfrm>
              <a:off x="7237440" y="1989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7"/>
            <p:cNvSpPr/>
            <p:nvPr/>
          </p:nvSpPr>
          <p:spPr>
            <a:xfrm>
              <a:off x="4932360" y="2133360"/>
              <a:ext cx="2273400" cy="936720"/>
            </a:xfrm>
            <a:prstGeom prst="wedgeRoundRectCallout">
              <a:avLst>
                <a:gd name="adj1" fmla="val 59425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题目中都告诉了我们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4000" y="3213000"/>
            <a:ext cx="4733280" cy="1800360"/>
            <a:chOff x="324000" y="3213000"/>
            <a:chExt cx="4733280" cy="1800360"/>
          </a:xfrm>
        </p:grpSpPr>
        <p:sp>
          <p:nvSpPr>
            <p:cNvPr id="63" name="AutoShape 27"/>
            <p:cNvSpPr/>
            <p:nvPr/>
          </p:nvSpPr>
          <p:spPr>
            <a:xfrm>
              <a:off x="1692000" y="3213000"/>
              <a:ext cx="3365280" cy="1305000"/>
            </a:xfrm>
            <a:prstGeom prst="wedgeRoundRectCallout">
              <a:avLst>
                <a:gd name="adj1" fmla="val -56745"/>
                <a:gd name="adj2" fmla="val -37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上图中两个圆的半径都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怎样求正方形和圆之间部分的面积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324000" y="321300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2987640" y="4653000"/>
            <a:ext cx="5230800" cy="1798560"/>
            <a:chOff x="2987640" y="4653000"/>
            <a:chExt cx="5230800" cy="1798560"/>
          </a:xfrm>
        </p:grpSpPr>
        <p:sp>
          <p:nvSpPr>
            <p:cNvPr id="66" name="AutoShape 27"/>
            <p:cNvSpPr/>
            <p:nvPr/>
          </p:nvSpPr>
          <p:spPr>
            <a:xfrm>
              <a:off x="2987640" y="4795920"/>
              <a:ext cx="3419640" cy="1008000"/>
            </a:xfrm>
            <a:prstGeom prst="wedgeRoundRectCallout">
              <a:avLst>
                <a:gd name="adj1" fmla="val 56268"/>
                <a:gd name="adj2" fmla="val -5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左图求的是正方形比圆多的面积，右图求的是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6588000" y="4653000"/>
              <a:ext cx="163044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4"/>
          <p:cNvSpPr/>
          <p:nvPr/>
        </p:nvSpPr>
        <p:spPr>
          <a:xfrm>
            <a:off x="2460600" y="4508640"/>
            <a:ext cx="27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图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可以看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5"/>
          <p:cNvSpPr/>
          <p:nvPr/>
        </p:nvSpPr>
        <p:spPr>
          <a:xfrm>
            <a:off x="2460600" y="6053040"/>
            <a:ext cx="26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8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2460600" y="554976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9640" y="1557360"/>
            <a:ext cx="4824360" cy="1279440"/>
            <a:chOff x="539640" y="1557360"/>
            <a:chExt cx="4824360" cy="1279440"/>
          </a:xfrm>
        </p:grpSpPr>
        <p:pic>
          <p:nvPicPr>
            <p:cNvPr id="73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53964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27"/>
            <p:cNvSpPr/>
            <p:nvPr/>
          </p:nvSpPr>
          <p:spPr>
            <a:xfrm>
              <a:off x="2197080" y="1846440"/>
              <a:ext cx="3166920" cy="574560"/>
            </a:xfrm>
            <a:prstGeom prst="wedgeRoundRectCallout">
              <a:avLst>
                <a:gd name="adj1" fmla="val -58370"/>
                <a:gd name="adj2" fmla="val 5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解决这个问题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00720" y="2637000"/>
            <a:ext cx="1792440" cy="2201400"/>
            <a:chOff x="6300720" y="2637000"/>
            <a:chExt cx="1792440" cy="220140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6300720" y="2637000"/>
              <a:ext cx="17924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584760" y="44701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4360" y="3068640"/>
            <a:ext cx="4733280" cy="1873080"/>
            <a:chOff x="684360" y="3068640"/>
            <a:chExt cx="4733280" cy="1873080"/>
          </a:xfrm>
        </p:grpSpPr>
        <p:sp>
          <p:nvSpPr>
            <p:cNvPr id="79" name="AutoShape 27"/>
            <p:cNvSpPr/>
            <p:nvPr/>
          </p:nvSpPr>
          <p:spPr>
            <a:xfrm>
              <a:off x="2052360" y="3068640"/>
              <a:ext cx="3365280" cy="1008000"/>
            </a:xfrm>
            <a:prstGeom prst="wedgeRoundRectCallout">
              <a:avLst>
                <a:gd name="adj1" fmla="val -58726"/>
                <a:gd name="adj2" fmla="val 17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右图中正方形的边长就是圆的直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684360" y="314172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2097360" y="3465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3635280" y="5229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522600" y="40053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图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可以看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1700280"/>
            <a:ext cx="4119480" cy="1873080"/>
            <a:chOff x="179280" y="1700280"/>
            <a:chExt cx="4119480" cy="1873080"/>
          </a:xfrm>
        </p:grpSpPr>
        <p:sp>
          <p:nvSpPr>
            <p:cNvPr id="86" name="AutoShape 27"/>
            <p:cNvSpPr/>
            <p:nvPr/>
          </p:nvSpPr>
          <p:spPr>
            <a:xfrm>
              <a:off x="1490400" y="1700280"/>
              <a:ext cx="2808360" cy="936720"/>
            </a:xfrm>
            <a:prstGeom prst="wedgeRoundRectCallout">
              <a:avLst>
                <a:gd name="adj1" fmla="val -59439"/>
                <a:gd name="adj2" fmla="val 30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图中正方形的边长是多少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79280" y="177336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84360" y="3860640"/>
            <a:ext cx="1831680" cy="2212920"/>
            <a:chOff x="684360" y="3860640"/>
            <a:chExt cx="1831680" cy="221292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684360" y="3860640"/>
              <a:ext cx="1831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204560" y="5705280"/>
              <a:ext cx="82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00560" y="4441680"/>
            <a:ext cx="3671640" cy="778680"/>
            <a:chOff x="3400560" y="4441680"/>
            <a:chExt cx="3671640" cy="778680"/>
          </a:xfrm>
        </p:grpSpPr>
        <p:sp>
          <p:nvSpPr>
            <p:cNvPr id="92" name="TextBox 18"/>
            <p:cNvSpPr/>
            <p:nvPr/>
          </p:nvSpPr>
          <p:spPr>
            <a:xfrm>
              <a:off x="3400560" y="4660920"/>
              <a:ext cx="36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706560" y="4441680"/>
              <a:ext cx="510480" cy="778680"/>
              <a:chOff x="3706560" y="4441680"/>
              <a:chExt cx="510480" cy="778680"/>
            </a:xfrm>
          </p:grpSpPr>
          <p:sp>
            <p:nvSpPr>
              <p:cNvPr id="94" name=""/>
              <p:cNvSpPr/>
              <p:nvPr/>
            </p:nvSpPr>
            <p:spPr>
              <a:xfrm>
                <a:off x="3712680" y="479736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560" y="44416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0480" y="48607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3059280" y="2781360"/>
            <a:ext cx="5662440" cy="1942560"/>
            <a:chOff x="3059280" y="2781360"/>
            <a:chExt cx="5662440" cy="1942560"/>
          </a:xfrm>
        </p:grpSpPr>
        <p:sp>
          <p:nvSpPr>
            <p:cNvPr id="98" name="AutoShape 27"/>
            <p:cNvSpPr/>
            <p:nvPr/>
          </p:nvSpPr>
          <p:spPr>
            <a:xfrm>
              <a:off x="3059280" y="2781360"/>
              <a:ext cx="4067280" cy="937800"/>
            </a:xfrm>
            <a:prstGeom prst="wedgeRoundRectCallout">
              <a:avLst>
                <a:gd name="adj1" fmla="val 56439"/>
                <a:gd name="adj2" fmla="val -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可以把图中的正方形看成两个三角形，它的底和高分别是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091640" y="2925360"/>
              <a:ext cx="16300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8371080" cy="6280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4"/>
          <p:cNvSpPr/>
          <p:nvPr/>
        </p:nvSpPr>
        <p:spPr>
          <a:xfrm>
            <a:off x="2244600" y="303372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图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86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9"/>
          <p:cNvSpPr/>
          <p:nvPr/>
        </p:nvSpPr>
        <p:spPr>
          <a:xfrm>
            <a:off x="1093680" y="5343480"/>
            <a:ext cx="750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左图中正方形与圆之间的面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8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右图中圆与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的面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1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700280"/>
            <a:ext cx="4897440" cy="1800000"/>
            <a:chOff x="324000" y="1700280"/>
            <a:chExt cx="4897440" cy="1800000"/>
          </a:xfrm>
        </p:grpSpPr>
        <p:sp>
          <p:nvSpPr>
            <p:cNvPr id="105" name="AutoShape 27"/>
            <p:cNvSpPr/>
            <p:nvPr/>
          </p:nvSpPr>
          <p:spPr>
            <a:xfrm>
              <a:off x="1692360" y="1700280"/>
              <a:ext cx="3529080" cy="934560"/>
            </a:xfrm>
            <a:prstGeom prst="wedgeRoundRectCallout">
              <a:avLst>
                <a:gd name="adj1" fmla="val -55625"/>
                <a:gd name="adj2" fmla="val 18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那么我们解答得对不对呢？有什么方法验证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24000" y="170028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3564000" y="1557360"/>
            <a:ext cx="5123880" cy="1279440"/>
            <a:chOff x="3564000" y="1557360"/>
            <a:chExt cx="5123880" cy="1279440"/>
          </a:xfrm>
        </p:grpSpPr>
        <p:pic>
          <p:nvPicPr>
            <p:cNvPr id="108" name="Picture 16" descr="女天使"/>
            <p:cNvPicPr/>
            <p:nvPr/>
          </p:nvPicPr>
          <p:blipFill>
            <a:blip r:embed="rId4"/>
            <a:stretch/>
          </p:blipFill>
          <p:spPr>
            <a:xfrm>
              <a:off x="716400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27"/>
            <p:cNvSpPr/>
            <p:nvPr/>
          </p:nvSpPr>
          <p:spPr>
            <a:xfrm>
              <a:off x="3564000" y="1701720"/>
              <a:ext cx="3568320" cy="936720"/>
            </a:xfrm>
            <a:prstGeom prst="wedgeRoundRectCallout">
              <a:avLst>
                <a:gd name="adj1" fmla="val 56004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如果两个圆的半径都是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结果又是怎样的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33440" y="3390840"/>
            <a:ext cx="6095880" cy="778680"/>
            <a:chOff x="2233440" y="3390840"/>
            <a:chExt cx="6095880" cy="778680"/>
          </a:xfrm>
        </p:grpSpPr>
        <p:sp>
          <p:nvSpPr>
            <p:cNvPr id="111" name="TextBox 35"/>
            <p:cNvSpPr/>
            <p:nvPr/>
          </p:nvSpPr>
          <p:spPr>
            <a:xfrm>
              <a:off x="2233440" y="362412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右图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1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541760" y="3390840"/>
              <a:ext cx="511200" cy="778680"/>
              <a:chOff x="4541760" y="3390840"/>
              <a:chExt cx="511200" cy="7786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48240" y="3746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41760" y="3390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86040" y="380988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95280" y="3860640"/>
            <a:ext cx="4824360" cy="1279440"/>
            <a:chOff x="395280" y="3860640"/>
            <a:chExt cx="4824360" cy="1279440"/>
          </a:xfrm>
        </p:grpSpPr>
        <p:pic>
          <p:nvPicPr>
            <p:cNvPr id="117" name="Picture 19" descr="女天使副本"/>
            <p:cNvPicPr/>
            <p:nvPr/>
          </p:nvPicPr>
          <p:blipFill>
            <a:blip r:embed="rId5"/>
            <a:stretch/>
          </p:blipFill>
          <p:spPr>
            <a:xfrm>
              <a:off x="395280" y="3860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27"/>
            <p:cNvSpPr/>
            <p:nvPr/>
          </p:nvSpPr>
          <p:spPr>
            <a:xfrm>
              <a:off x="2052720" y="4149720"/>
              <a:ext cx="3166920" cy="936360"/>
            </a:xfrm>
            <a:prstGeom prst="wedgeRoundRectCallout">
              <a:avLst>
                <a:gd name="adj1" fmla="val -58370"/>
                <a:gd name="adj2" fmla="val 11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时，和前面的结果完全一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785880" y="2357280"/>
            <a:ext cx="5441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右图是一面我国唐代外圆内方的铜镜。铜镜的直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4.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外面的圆与内部的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间的面积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900000" y="5129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：外面的圆与内部的正方形之间的面积约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75.3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1619280" y="40766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.1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4.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75.2864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75.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324000" y="1484280"/>
            <a:ext cx="38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解决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372360" y="2205000"/>
            <a:ext cx="14176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324000" y="1484280"/>
            <a:ext cx="45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生活中的数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66720" y="2133720"/>
            <a:ext cx="5884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547640" y="2114640"/>
            <a:ext cx="5915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30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